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E3C7-4C9A-42E5-B258-61DDDDB7B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3CC0-4D70-44EB-92A1-7AE1903B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4265-7135-46DC-BB47-D244DBFCD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5BFF-B0E8-4692-A7B7-8FB6CFA98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2B6A-F774-4325-BFC3-ED71F0BC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4407-1C4A-4F03-AEC8-7590342F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E5E5-63DC-43F5-B6F6-A80D04F4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78AF-64DF-4A82-B543-7F2DF994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82F9-3039-459A-94AE-93541F46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C0CA-F03F-4887-A2C9-FB3FEBA9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7674-B464-4654-B079-4672A317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EDDA-7FFC-46D7-ABEE-D577A55C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7930-A151-4A75-AE7D-9411AD428B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276640"/>
            <a:ext cx="70200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  <a:ea typeface="Arial"/>
              </a:rPr>
              <a:t>Сортировка и поиск данны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БРАБОТКА  ЧИСЛОВОЙ ИНФОРМАЦИИ  В  ЭЛЕКТРОННЫХ  ТАБЛИЦ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468360" y="1413000"/>
            <a:ext cx="84247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18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ртир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иск (фильтрац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84360" y="1628640"/>
          <a:ext cx="8208720" cy="2563920"/>
        </p:xfrm>
        <a:graphic>
          <a:graphicData uri="http://schemas.openxmlformats.org/drawingml/2006/table">
            <a:tbl>
              <a:tblPr/>
              <a:tblGrid>
                <a:gridCol w="1800000"/>
                <a:gridCol w="3240000"/>
                <a:gridCol w="3168720"/>
              </a:tblGrid>
              <a:tr h="529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ны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возрастани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убывани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«А»до 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, от «А» до «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 до «А», от «Я» до «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наименьших к наибольши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наибольших к наименьши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63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и 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старых к нов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новых к стар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Text Box 72"/>
          <p:cNvSpPr/>
          <p:nvPr/>
        </p:nvSpPr>
        <p:spPr>
          <a:xfrm>
            <a:off x="755640" y="26028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способы выполнения сортир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3"/>
          <p:cNvSpPr/>
          <p:nvPr/>
        </p:nvSpPr>
        <p:spPr>
          <a:xfrm>
            <a:off x="468360" y="465300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ом сортировки является удобная для восприятия форма представления данных, что позволяет быстрее находить необходимую информацию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6" descr=""/>
          <p:cNvPicPr/>
          <p:nvPr/>
        </p:nvPicPr>
        <p:blipFill>
          <a:blip r:embed="rId2"/>
          <a:stretch/>
        </p:blipFill>
        <p:spPr>
          <a:xfrm>
            <a:off x="6715080" y="5383080"/>
            <a:ext cx="2357640" cy="1403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Заголовок 2"/>
          <p:cNvSpPr/>
          <p:nvPr/>
        </p:nvSpPr>
        <p:spPr>
          <a:xfrm>
            <a:off x="611280" y="189000"/>
            <a:ext cx="8075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Сортировка и поиск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468360" y="692280"/>
            <a:ext cx="4390920" cy="28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имер 1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В электронную таблицу занесены данные о ценах на бензин трёх марок (92, 95, 98) на заправочных станциях некоторого региона. Каждой заправке присвоен уникальный номер; всего имеются сведения о 1000 заправочных станц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"/>
          <p:cNvPicPr/>
          <p:nvPr/>
        </p:nvPicPr>
        <p:blipFill>
          <a:blip r:embed="rId2"/>
          <a:stretch/>
        </p:blipFill>
        <p:spPr>
          <a:xfrm>
            <a:off x="1476360" y="3716280"/>
            <a:ext cx="5977080" cy="1992240"/>
          </a:xfrm>
          <a:prstGeom prst="rect">
            <a:avLst/>
          </a:prstGeom>
          <a:ln w="76320">
            <a:solidFill>
              <a:srgbClr val="005ab4"/>
            </a:solidFill>
            <a:miter/>
          </a:ln>
        </p:spPr>
      </p:pic>
      <p:sp>
        <p:nvSpPr>
          <p:cNvPr id="52" name="Text Box 15"/>
          <p:cNvSpPr/>
          <p:nvPr/>
        </p:nvSpPr>
        <p:spPr>
          <a:xfrm>
            <a:off x="468360" y="5877000"/>
            <a:ext cx="83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колько заправочных станций региона продают бензин марки 92 по максимальной цен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http://www.business-gazeta.ru/images/upload/2011/june/18/1.jpg"/>
          <p:cNvPicPr/>
          <p:nvPr/>
        </p:nvPicPr>
        <p:blipFill>
          <a:blip r:embed="rId3"/>
          <a:stretch/>
        </p:blipFill>
        <p:spPr>
          <a:xfrm>
            <a:off x="5148360" y="765000"/>
            <a:ext cx="3384360" cy="2541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Заголовок 2"/>
          <p:cNvSpPr/>
          <p:nvPr/>
        </p:nvSpPr>
        <p:spPr>
          <a:xfrm>
            <a:off x="611280" y="189000"/>
            <a:ext cx="8075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Сортировка и поиск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95280" y="692280"/>
            <a:ext cx="54720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Узнаем максимальную цену на бензин марки 9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539640" y="3214800"/>
            <a:ext cx="3384720" cy="2970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5076720" y="6165720"/>
            <a:ext cx="34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enOffice.org.Ca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692360" y="616572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"/>
          <p:cNvPicPr/>
          <p:nvPr/>
        </p:nvPicPr>
        <p:blipFill>
          <a:blip r:embed="rId3"/>
          <a:stretch/>
        </p:blipFill>
        <p:spPr>
          <a:xfrm>
            <a:off x="6084720" y="836640"/>
            <a:ext cx="2808360" cy="28814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468360" y="1413000"/>
            <a:ext cx="547200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ля этого отсортируем таблицу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1)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 возрастанию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 марке бензин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2) при равных значениях марки бензина -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 убыванию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цены бензи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"/>
          <p:cNvPicPr/>
          <p:nvPr/>
        </p:nvPicPr>
        <p:blipFill>
          <a:blip r:embed="rId4"/>
          <a:stretch/>
        </p:blipFill>
        <p:spPr>
          <a:xfrm>
            <a:off x="4000680" y="3786120"/>
            <a:ext cx="5114880" cy="2371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Заголовок 2"/>
          <p:cNvSpPr/>
          <p:nvPr/>
        </p:nvSpPr>
        <p:spPr>
          <a:xfrm>
            <a:off x="611280" y="189000"/>
            <a:ext cx="8075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Сортировка и поиск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"/>
          <p:cNvPicPr/>
          <p:nvPr/>
        </p:nvPicPr>
        <p:blipFill>
          <a:blip r:embed="rId2"/>
          <a:stretch/>
        </p:blipFill>
        <p:spPr>
          <a:xfrm>
            <a:off x="6084720" y="836640"/>
            <a:ext cx="2808360" cy="28814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428760" y="1071720"/>
            <a:ext cx="547200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именим к диапазону ячеек с ценами на бензин марк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9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функцию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СЧЁТЕСЛ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и с её помощью определим число заправочных станций, продающих бензин по максимальной це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3"/>
          <a:stretch/>
        </p:blipFill>
        <p:spPr>
          <a:xfrm>
            <a:off x="428760" y="3500280"/>
            <a:ext cx="5562360" cy="2533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Заголовок 2"/>
          <p:cNvSpPr/>
          <p:nvPr/>
        </p:nvSpPr>
        <p:spPr>
          <a:xfrm>
            <a:off x="611280" y="189000"/>
            <a:ext cx="8075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оиск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39640" y="765000"/>
            <a:ext cx="8280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иск данных в электронных таблицах осуществляется с помощью фильтров, которые «не пропускают» на экран записи, не удовлетворяющие условиям поис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имер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Фильтр для поля «Марка бензина», состоящий из условия «=» со значением «92»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2571840" y="3857760"/>
            <a:ext cx="374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фильтраци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2"/>
          <a:stretch/>
        </p:blipFill>
        <p:spPr>
          <a:xfrm>
            <a:off x="785880" y="4429080"/>
            <a:ext cx="7993080" cy="1676520"/>
          </a:xfrm>
          <a:prstGeom prst="rect">
            <a:avLst/>
          </a:prstGeom>
          <a:ln w="76320">
            <a:solidFill>
              <a:srgbClr val="005ab4"/>
            </a:solidFill>
            <a:miter/>
          </a:ln>
        </p:spPr>
      </p:pic>
      <p:sp>
        <p:nvSpPr>
          <p:cNvPr id="70" name="Text Box 8"/>
          <p:cNvSpPr/>
          <p:nvPr/>
        </p:nvSpPr>
        <p:spPr>
          <a:xfrm>
            <a:off x="2714760" y="6286680"/>
            <a:ext cx="34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enOffice.org.Ca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"/>
          <p:cNvPicPr/>
          <p:nvPr/>
        </p:nvPicPr>
        <p:blipFill>
          <a:blip r:embed="rId3"/>
          <a:stretch/>
        </p:blipFill>
        <p:spPr>
          <a:xfrm>
            <a:off x="1214280" y="2719440"/>
            <a:ext cx="7056720" cy="995400"/>
          </a:xfrm>
          <a:prstGeom prst="rect">
            <a:avLst/>
          </a:prstGeom>
          <a:ln w="76320">
            <a:solidFill>
              <a:srgbClr val="005ab4"/>
            </a:solidFill>
            <a:miter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Arial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4"/>
          <p:cNvSpPr/>
          <p:nvPr/>
        </p:nvSpPr>
        <p:spPr>
          <a:xfrm>
            <a:off x="324000" y="1484280"/>
            <a:ext cx="864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 помощью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ртиров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данные можно расположить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 возрастан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л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 убыван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содержимого яче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ис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данных в электронных таблицах осуществляется с помощью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ильтр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которые «не пропускают» на экран записи, не удовлетворяющие условиям пои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8"/>
          <p:cNvSpPr/>
          <p:nvPr/>
        </p:nvSpPr>
        <p:spPr>
          <a:xfrm flipH="1" flipV="1">
            <a:off x="3781440" y="3499920"/>
            <a:ext cx="1224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 flipH="1">
            <a:off x="3781440" y="3068640"/>
            <a:ext cx="122400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  <a:ea typeface="Arial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900000" y="3068640"/>
            <a:ext cx="2952720" cy="863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ортиров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5005440" y="3645000"/>
            <a:ext cx="28098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убыва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611280" y="1376280"/>
            <a:ext cx="8353440" cy="76428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ыполнить анализ и визуализацию данных в таблице позволяют сортировка, поиск и графическое отображ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005440" y="2852640"/>
            <a:ext cx="280980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возраста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617400" y="5373720"/>
            <a:ext cx="8353440" cy="42912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 графическом отображении узнаем на следующем уро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1</cp:lastModifiedBy>
  <dcterms:modified xsi:type="dcterms:W3CDTF">2016-09-19T18:13:16Z</dcterms:modified>
  <cp:revision>134</cp:revision>
  <dc:subject/>
  <dc:title>Презентация PowerPoint</dc:title>
</cp:coreProperties>
</file>